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8DD8-77EF-4611-92C8-5D9F39F4B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he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on and the Shepherd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Lion and the Shephe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shepherd helped the 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 person feel the emotions that someone else is fee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mean to have empathy for some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empathetic with a person, how does that make him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hat person do you empathize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Defined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means being kind and thoughtful towards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genuinely concerned for the welfa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compassionate shows that he/she cares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 an emotional response to the pain and pleasure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athetic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empathetic has a generous spirit toward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, loving, and sensitiv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siderate person is kind and l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863-BC9D-4745-90EB-683C9035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090-AAE2-498E-A7B8-29945F1B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325-98A7-400C-902E-CFD697F0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DB9-8A06-4447-B68C-4CF06D74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92A1-EB90-4017-A599-355A148A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C034-7BE9-4A10-B583-AE2EBB82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AB89-550C-4323-A65D-7A27654B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5EDE-55C5-4F43-80A2-E6CE9352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9D1C-C89C-46E9-9BF7-CC6A1988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E1A0-AAAB-4EED-8E1A-19856C22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9FEE-D718-458C-8A29-8ECC13B8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1CB-5DF8-40AF-96D5-9F759882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4113-5311-4A71-B2AC-4C89FA4E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C6E4-1C76-4C2E-971E-FCD64F66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A1E9-6EC0-4AF6-A974-828D7049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6B86-4EAF-4DC1-AFF5-B2195928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C7D6-8298-493E-9CE8-C4890E91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1F5-D919-461F-8F57-EF423DD7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D07-0122-45DA-9DB9-78E81499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CE3-C2F2-44B5-B5C6-13B4CB96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9E5-D056-4D7A-B3F9-44569A1F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D7F-6569-41EB-ACD1-B31533C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CA9-D90A-4DC7-B2DA-3A51BAC7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2FB-E6B1-4B0E-B8DA-146B8AD7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3EF6-C443-45C3-9464-D2393D458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99B1-E0BC-4028-8348-3112A38764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ss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sensitive to the needs of other people and helps people in ne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athet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dhe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ide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vol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ion and the Shepherd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scussion Questions for “The Lion and the Shepherd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the shepherd helped the l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 person feel the emotions that someone else is fee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 to have empathy for some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empathetic with a person, how does that make him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person do you empathiz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Defined:</a:t>
            </a:r>
            <a:br>
              <a:rPr sz="4400"/>
            </a:br>
            <a:br>
              <a:rPr sz="40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 means being kind and thoughtful towards other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ssionate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genuinely concerned for the welfa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is ethical and genuinely concerned with the welfa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j0281904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ssionat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compassionate shows that he/she cares about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mpathetic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Feeling an emotional response to the pain and pleasure of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feels an emotional response to the pain and the pleasure of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mpathetic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empathetic has a generous spirit toward other peop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sideration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kind, loving, and sensitive to other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ideration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nsiderate person is kind and lov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j0281904"/>
          <p:cNvPicPr/>
          <p:nvPr/>
        </p:nvPicPr>
        <p:blipFill>
          <a:blip r:embed="rId1"/>
          <a:stretch/>
        </p:blipFill>
        <p:spPr>
          <a:xfrm>
            <a:off x="5257800" y="213372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4:01Z</dcterms:modified>
  <cp:revision>7</cp:revision>
  <dc:subject/>
  <dc:title>Character Education compassion</dc:title>
</cp:coreProperties>
</file>